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2D5-B7D5-4244-96E8-BA8D5937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44F-AA5B-4863-9F5A-794E4ACD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FFE-5807-421A-ABA4-DE813014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0FC-B8F1-4067-9849-6D25F779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11F3-58D8-44BB-9234-C2A60067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05A7-F15F-4F2D-B2A4-E303F005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A685-3C43-41EC-A7C4-206EA260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6F57-2BB8-4D5C-BC2B-E249894E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AD4E-D055-47CF-80FF-920E06C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BB1C-39BE-4B6D-979B-C8CC2BD9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0E2F-FFE3-441F-98A3-14A289D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C21-0437-4836-BE83-39DE97B0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B22-11D7-4D06-849C-CF483CDC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EC17-C85C-490C-AFCD-435647D0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43F4-2BB6-4A20-BEE6-4F9AD3FC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11B6-5CD5-4476-9E04-ACB363B1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EC13-EB0B-4426-9295-3B11CF61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EA3-CB6C-4508-828F-F4D781E9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9FB-AE7B-4178-BDB2-45F150B0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8B4-70EE-4CCD-9D7F-329A2BBC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BB9-F77E-4290-8BFE-99A11AC3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56A-CB5D-4B70-943A-1AA9588D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ADA-741A-485F-91C5-03E7CE8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655-7DFB-43FB-BA16-A5116D8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55CD-D2F5-4825-B90C-AB152B7DA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DD9B-074F-493B-B037-83B2C1E26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064880"/>
            <a:ext cx="58561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80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80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80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8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DER OF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PER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607680"/>
            <a:ext cx="58561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80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80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80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8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981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BRACK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895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</a:rPr>
              <a:t>Ind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80988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DIVIDE or MULTIP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in the order that they 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539280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DD or SUBTRAC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n the order that they c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0"/>
            <a:ext cx="60984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205740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04812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388620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5334120"/>
            <a:ext cx="609480" cy="685800"/>
          </a:xfrm>
          <a:prstGeom prst="flowChartConnec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1447920"/>
            <a:ext cx="0" cy="685800"/>
          </a:xfrm>
          <a:prstGeom prst="line">
            <a:avLst/>
          </a:prstGeom>
          <a:ln w="6336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1447920"/>
            <a:ext cx="0" cy="1523880"/>
          </a:xfrm>
          <a:prstGeom prst="line">
            <a:avLst/>
          </a:prstGeom>
          <a:ln w="6336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1523880"/>
            <a:ext cx="0" cy="2514600"/>
          </a:xfrm>
          <a:prstGeom prst="line">
            <a:avLst/>
          </a:prstGeom>
          <a:ln w="6336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1600200"/>
            <a:ext cx="0" cy="3962520"/>
          </a:xfrm>
          <a:prstGeom prst="line">
            <a:avLst/>
          </a:prstGeom>
          <a:ln w="6336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7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9800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3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73120" y="2895480"/>
            <a:ext cx="13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2817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00080" y="2895480"/>
            <a:ext cx="84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1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960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    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30440" y="411480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1" lang="en-US" sz="4800" spc="-1" strike="noStrike">
                <a:solidFill>
                  <a:srgbClr val="ffff66"/>
                </a:solidFill>
                <a:latin typeface="Arial Black"/>
              </a:rPr>
              <a:t>1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9800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3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4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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14160" y="2895480"/>
            <a:ext cx="161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2740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05000" y="2895480"/>
            <a:ext cx="84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1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255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    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46280" y="4114800"/>
            <a:ext cx="14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5320" y="533412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3960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16880" y="2895480"/>
            <a:ext cx="11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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04800" y="4191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7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9800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3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(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4 + 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380736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5255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    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266436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81808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3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0219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51649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28180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00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7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75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9800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3</a:t>
            </a: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²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(</a:t>
            </a:r>
            <a:r>
              <a:rPr b="1" lang="en-US" sz="4800" spc="-1" strike="noStrike">
                <a:solidFill>
                  <a:srgbClr val="ff66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4 + 2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47980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9410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     </a:t>
            </a: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266436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81808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3</a:t>
            </a: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²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72212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7888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28180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7221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36565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2 </a:t>
            </a:r>
            <a:r>
              <a:rPr b="1" lang="en-US" sz="4800" spc="-1" strike="noStrike">
                <a:solidFill>
                  <a:srgbClr val="ff66ff"/>
                </a:solidFill>
                <a:latin typeface="Symbol"/>
                <a:ea typeface="Symbol"/>
              </a:rPr>
              <a:t>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6565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-</a:t>
            </a:r>
            <a:r>
              <a:rPr b="1" lang="en-US" sz="4800" spc="-1" strike="noStrike">
                <a:solidFill>
                  <a:srgbClr val="ccffff"/>
                </a:solidFill>
                <a:latin typeface="Arial Black"/>
              </a:rPr>
              <a:t> 6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357876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 Black"/>
              </a:rPr>
              <a:t>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37314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7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66680" y="685800"/>
            <a:ext cx="4114800" cy="4038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4546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ff33"/>
                </a:solidFill>
                <a:latin typeface="Arial Black"/>
              </a:rPr>
              <a:t>B</a:t>
            </a:r>
            <a:r>
              <a:rPr b="0" lang="en-GB" sz="5400" spc="-1" strike="noStrike">
                <a:solidFill>
                  <a:srgbClr val="ff9900"/>
                </a:solidFill>
                <a:latin typeface="Arial Black"/>
              </a:rPr>
              <a:t>I</a:t>
            </a:r>
            <a:r>
              <a:rPr b="0" lang="en-GB" sz="5400" spc="-1" strike="noStrike">
                <a:solidFill>
                  <a:srgbClr val="ff66ff"/>
                </a:solidFill>
                <a:latin typeface="Arial Black"/>
              </a:rPr>
              <a:t>DM</a:t>
            </a:r>
            <a:r>
              <a:rPr b="0" lang="en-GB" sz="5400" spc="-1" strike="noStrike">
                <a:solidFill>
                  <a:srgbClr val="ffff66"/>
                </a:solidFill>
                <a:latin typeface="Arial Black"/>
              </a:rPr>
              <a:t>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548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ff"/>
                </a:solidFill>
                <a:latin typeface="Arial Black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569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Arial Black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72176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(25×4) </a:t>
            </a:r>
            <a:r>
              <a:rPr b="0" lang="en-US" sz="4400" spc="-1" strike="noStrike">
                <a:solidFill>
                  <a:srgbClr val="ff66ff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 (48+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19320" y="914400"/>
                <a:ext cx="182880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752480" y="2666880"/>
                <a:ext cx="28386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066680" y="55602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100 </a:t>
            </a:r>
            <a:r>
              <a:rPr b="0" lang="en-US" sz="4400" spc="-1" strike="noStrike">
                <a:solidFill>
                  <a:srgbClr val="ff66ff"/>
                </a:solidFill>
                <a:latin typeface="Symbol"/>
                <a:ea typeface="Symbol"/>
              </a:rPr>
              <a:t>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 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60937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= </a:t>
            </a: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75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44:59Z</dcterms:created>
  <dc:creator>RM</dc:creator>
  <dc:description/>
  <dc:language>en-US</dc:language>
  <cp:lastModifiedBy>Caroline</cp:lastModifiedBy>
  <dcterms:modified xsi:type="dcterms:W3CDTF">2009-01-26T21:35:31Z</dcterms:modified>
  <cp:revision>7</cp:revision>
  <dc:subject/>
  <dc:title>BODMAS</dc:title>
</cp:coreProperties>
</file>